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0897-2A2D-43CE-BD0D-36DB9B87E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4968-81BB-45B2-A4B3-58C69B00C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ED93-4E7A-4B9D-B97A-4E61F7CC3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5411-7A6E-44AD-BE79-6BEDA2404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F449-D378-49A9-9FCA-CB6E22095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2BA7-EBEC-43B9-9FBE-53C47D341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7227-61BC-46BF-9EC6-3CCA20547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50C0-A54C-40B4-8264-82BD07398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3966-BD5C-4455-ADBB-C56DE630F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B8E7-266B-437C-A7B4-7C490168B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5E1B-0360-4C03-B37B-B2CC27130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667E-DE96-4C8F-9DBB-C09827430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3DBD-7E95-4BC7-974A-4F4963340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7D6B-7700-4701-A680-A6494D649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8913-D03F-4246-AA34-84F7096BA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3D67-22A9-4364-AE04-66732A743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29D5-3A09-4899-B945-F86061C64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06B6-B9C6-4222-BBCC-10689AD78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1965-5283-44F0-AEF3-B791F6C1F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25BF-2860-4BDB-82A0-D81919450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3F26-DAB4-45B1-82D2-09EB5A3C8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F859-0E61-442A-BFC4-7D01FDACA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DBCD-BE70-43A0-A90E-3CACAFEB4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5DE4-8363-47CE-B7EA-7ADA082A0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1E77-D540-42D8-8343-0BDF89AA4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CCBA-9E48-48FE-8A78-1275D5136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A502-25E8-4447-9300-499419570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17B5-B093-4465-9ABE-7373EE318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F135-528A-41DA-89F0-F68315157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513C-6459-47CB-9952-B3D15301C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3662-0361-4205-849C-8E3E41058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421D-D279-4532-B814-C3D3A5C66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CB5F-8A53-4F93-B7FF-F7C050453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9C6A-B90B-43B0-9A57-EB320B771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B932-2932-4ECB-BE06-B3AA3FB01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0D7D-E971-44C4-B98A-3118BC587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1DE3-90DE-47E5-B338-60EC9B55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F2FB-C2E9-41A6-B98C-94B1E5A8F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24200" y="501480"/>
            <a:ext cx="3171600" cy="23781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47200" y="2955600"/>
            <a:ext cx="5938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663-B742-4B4F-B9AA-53D27E2B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C6A-3896-4C2E-A45D-40149CAD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157-C7FA-4813-B62E-12B160F4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80A-018C-4A48-8B03-E1D5C898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E66C-D217-4EDE-B20F-08BF47AB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8794-D1DF-4E66-9543-0C79196A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A06B-6AAA-4BA4-8668-FCCD4BB5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4763-2450-4D2B-A530-91CACDD4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36ED-65DF-4233-B17F-457BA104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3E9C-7EB8-4853-B2E2-90462335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692B-97BE-418E-965F-C462EC5B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03A-A5B6-438F-A0D6-3FE035F1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84B5-59F8-4AC1-9109-429CA64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5F91-8260-45A4-84B6-A66A5EB9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E0C9-6616-45D7-9A4A-11F94BB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B6E2-D984-4879-BAE3-52C25AD6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D296-9F9B-45CD-8992-44AA4988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B5F-502E-4CC0-89BA-0CF908A9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4E9-0D3B-46F1-B7E3-09585293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DD1-6B9E-4864-B9E3-0ECAF9AD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F08-44BB-48B9-AD66-4044AE1D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0B2-A269-4550-B3F1-E5C69B10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CA2-78A4-4DFA-A681-C930A9D9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ACD-CE50-471D-A8E1-C95AFF0F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16B8-A05F-467C-97FA-51C554521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65CB-E436-48BA-BEA7-2C91E0BBD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400800"/>
            <a:ext cx="86104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ing, 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dition.  Copyright ©2008 by South-Western, a division of Thomson Learning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pulation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pulation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population growth trends, age distributions, and geographic tr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umber of Births by Ye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10320" r="0" b="4009"/>
          <a:stretch/>
        </p:blipFill>
        <p:spPr>
          <a:xfrm>
            <a:off x="568440" y="1523880"/>
            <a:ext cx="7889760" cy="434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urrent average projections are correct, the United States population will increase only about 1% a year, from 295 million in 2005 to 336 million in 2020 and to 420 million by 2050, or 37% over 4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ity of this growth will be a result of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e Distribu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0 the median age was 30, but by 2005 it had risen to over 3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of early baby boomers today accounts for almost 28% of the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eniors (60+) live longer, the group will become more seg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e Distribu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busters or Generation X, those born between 1965 and 1977, is a declining percentage of the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Y or Echo boomers, those born between 1978 and 1994, are emerging as a major buying force in the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omers, Xers and Yer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graph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marketing Merchandi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ailoring of merchandise in each store to the preferences of its neighbo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xas Consumers’ Percentage of National Average U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647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graph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Statistical 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freestanding urban areas with populations in excess of 5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importance of population trends to the retail ma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social trends that retail managers should regularly monitor and describe their impact on retai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hanging economic trends and their effect on retai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consumer shopping/purchasing model, including the key stages in the shopping/purchas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graph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rtion of the population residing in metropolitan areas has increased dramatically, form 64% in 1950 to 79%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graph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or Metropolitan population varies by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fornia, Massachusetts, New Jersey are over 90% urban/me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e, Mississippi, Vermont, and West Virginia are less than 50% urban/me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graph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Americans change residence about a dozen times in a life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ose who move each year, about 64% remain in the same county, about 21% move to a new county but same state, and approximately 18% move to a new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Marriage and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up of the American House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Nature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ducation level of the average American is increa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, 85% of those over 25 had a high school degree and 27% had a college de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6 there were 23% more women enrolled in college than 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couples are one of the slowest growing household types not only in this country but also worldw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are people postponing marriage, some are choosing not to marry at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1960, the U.S. divorce rate has increased by 25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% of all households have no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1980 and 2003 the “home-aloners” increased by 4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gles” Unmarried Cou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167% since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% of couple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merang Eff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called because the parents think the children have left for good, but they keep coming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estimated over the next decade 40% of children will return to their parents after they have previously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, there were nearly 10 million self-employed individuals and estimated 6 million home-based businesses in the United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M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bination of merchandise, assortment, price, promotion, customer service, and store layout that best serves the segments targeted by the retai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in the Labor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Use of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 of Aggregate Income Received by Each Fifth and the Top 5% of U.S. Households, 1980-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6415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10640" cy="3733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able In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ersonal income less personal t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ionary In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isposable income minus the money needed for necessities to sustain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s, expressed as a percentage of disposable income, have dwindled from a post-World War II high of 8.8% in 1981 to 4.6% in 1995 to a dismal 1.7% in 2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, the rate was 2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70, 43% of all women over the age of 16 were in the labor force; today it is 6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% of all women ages 25 to 34 are currently on the labo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centage of working married women with preschoolers increased from 30% in 1970 to 60% in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in 2006 were staggering under an estimated $2.2 trillion in consumer de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Information Gathering (Se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urchas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Shopping/ Purchase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6415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71600" y="1828800"/>
            <a:ext cx="8138880" cy="3657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a cue that is external to the individual or a drive that is internal to the indiv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atisf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the total shopping experience of the customer has been met or exc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any object or phenomenon in the environment that is capable of eliciting a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a motivating force that directs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 Information Gathe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eceiving and processing of information regarding the existence and quality of merchandise, services, stores, shopping, convenience, pricing, advertising, and any other factors that a consumer might consider in making a purc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Recog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the consumer’s desired state of affairs departs sufficiently from the actual state of affairs, placing the consumer in a state of un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grees of Consumer Problem Solving in Shopping/Purchas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4038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ual problem s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the consumer relies on past experiences and learning to convert the problem into a situation requiring less thought. The consumer has a strong preference for the brand to buy and the retailer from which to purcha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Problem S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the consumer has a strong preference for either the brand or the store, but not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Problem S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the consumer recognizes a problem but has decided on neither the brand nor the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Information Gathe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consumers proactively gather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the characteristics of the store and its products an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Spend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Alterna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consumers make judgments regarding the individual product attributes of a retailer and/o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chase stage may include final negotiation, application for credit if necessary, and the determination of the terms of purc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urchase 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perceptions toward the retailer and/or product purchased after use and e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umer Behavior Mod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urchase Resent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when after the purchase the consumer becomes dissatisfied with the product, service, or retailer and thus begins to regret the purchase wa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itional Slid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pulation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52578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676520"/>
            <a:ext cx="7848720" cy="3809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676520"/>
            <a:ext cx="0" cy="3809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91320" y="1676520"/>
            <a:ext cx="0" cy="3809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803680"/>
            <a:ext cx="213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2819520"/>
            <a:ext cx="228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2819520"/>
            <a:ext cx="228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cial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1447920"/>
            <a:ext cx="6096240" cy="4647960"/>
          </a:xfrm>
          <a:prstGeom prst="flowChartOr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18680" y="26971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2027160"/>
            <a:ext cx="257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1880" y="3836880"/>
            <a:ext cx="232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up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9400" y="3836880"/>
            <a:ext cx="191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1447920"/>
            <a:ext cx="5334120" cy="4647960"/>
          </a:xfrm>
          <a:prstGeom prst="flowChar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81920" y="236232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01680" y="2362320"/>
            <a:ext cx="178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1760" y="3932280"/>
            <a:ext cx="212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9040" y="3932280"/>
            <a:ext cx="246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p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activities the retailer performs that influence (1) the ease with which a potential customer can shop or learn about the store’s offering, (2) the ease with which a transaction can be completed once the customer attempts to make a purchase, and (3) the customer’s satisfaction with the purc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urrent Trends Affect the Way the Consumer Behave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6415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hibit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Seg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dividing of a heterogeneous consumer population into smaller, more homogeneous groups based on their character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llars &amp; Sen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ers who focus on understanding a well-defined niche and serving that market with a differentiated offer will be more profitable than their 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2:04:18Z</dcterms:created>
  <dc:creator>Steven Inman</dc:creator>
  <dc:description/>
  <dc:language>en-US</dc:language>
  <cp:lastModifiedBy>Steven Inman</cp:lastModifiedBy>
  <dcterms:modified xsi:type="dcterms:W3CDTF">2007-01-15T03:31:16Z</dcterms:modified>
  <cp:revision>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